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620-29CD-459A-AC38-D4D2A510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56E-193B-4D17-BA3D-77B3477C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5E3-58F8-45D0-81CF-659F713F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AC9-3182-44AE-92F6-E85F276C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720-24ED-4C6B-A040-42FE01CF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046-46D1-4EDE-AFB8-4215DA66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9F3-91F4-4B9B-9342-D8DB2827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4B5-D406-4177-82E7-0D860B3C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AF5-DE35-4585-90D7-C9BF404C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181-1278-4F54-8DE6-B89136F3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018-96E8-4BD8-BBF2-876BF16F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4AB-05A6-48E2-9E2D-C54A06A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7604-5FD0-4344-B29B-E29C750477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-3ZNnsC4q4" TargetMode="External"/><Relationship Id="rId2" Type="http://schemas.openxmlformats.org/officeDocument/2006/relationships/hyperlink" Target="http://www.youtube.com/watch?v=6-3ZNnsC4q4" TargetMode="External"/><Relationship Id="rId3" Type="http://schemas.openxmlformats.org/officeDocument/2006/relationships/hyperlink" Target="http://www.youtube.com/watch?v=6-3ZNnsC4q4" TargetMode="External"/><Relationship Id="rId4" Type="http://schemas.openxmlformats.org/officeDocument/2006/relationships/hyperlink" Target="http://www.youtube.com/watch?v=6-3ZNnsC4q4" TargetMode="External"/><Relationship Id="rId5" Type="http://schemas.openxmlformats.org/officeDocument/2006/relationships/hyperlink" Target="http://www.youtube.com/watch?v=6-3ZNnsC4q4" TargetMode="External"/><Relationship Id="rId6" Type="http://schemas.openxmlformats.org/officeDocument/2006/relationships/hyperlink" Target="http://www.youtube.com/watch?v=6-3ZNnsC4q4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197000"/>
            <a:ext cx="8388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 amets baten bil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los-viajes-de-colon"/>
          <p:cNvPicPr/>
          <p:nvPr/>
        </p:nvPicPr>
        <p:blipFill>
          <a:blip r:embed="rId1"/>
          <a:stretch/>
        </p:blipFill>
        <p:spPr>
          <a:xfrm>
            <a:off x="179280" y="2205000"/>
            <a:ext cx="5399280" cy="3430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5940360" y="27082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ehen,  bigarren, hirugarren eta laugarren bidaiaren mapa ikus dezakegu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56000" y="692280"/>
            <a:ext cx="3671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p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181440" y="691920"/>
            <a:ext cx="464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u-ES" sz="2800" spc="-1" strike="noStrike">
                <a:solidFill>
                  <a:srgbClr val="000000"/>
                </a:solidFill>
                <a:latin typeface="Comic Sans MS"/>
              </a:rPr>
              <a:t>Amerikaren aurkikuntza 1492ko urriaren 12an europarrek ,Kristobal Kolon buru, zegoela aurkitu zu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olon3"/>
          <p:cNvPicPr/>
          <p:nvPr/>
        </p:nvPicPr>
        <p:blipFill>
          <a:blip r:embed="rId1"/>
          <a:stretch/>
        </p:blipFill>
        <p:spPr>
          <a:xfrm>
            <a:off x="4788000" y="189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segundo-viaje-colon"/>
          <p:cNvPicPr/>
          <p:nvPr/>
        </p:nvPicPr>
        <p:blipFill>
          <a:blip r:embed="rId2"/>
          <a:stretch/>
        </p:blipFill>
        <p:spPr>
          <a:xfrm>
            <a:off x="179280" y="3645000"/>
            <a:ext cx="3745080" cy="2535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4572000" y="3716280"/>
            <a:ext cx="374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Comic Sans MS"/>
              </a:rPr>
              <a:t>Asiara iritsi zirela pentsatu zuten, baina Karibeko itsasoko Guanahani uhartera iritzi ziren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919400" cy="626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35640" y="620640"/>
            <a:ext cx="3260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Hau da kolonen arukikuntzen mapa 1540an kolon hiltzean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ken, Maien eta Azteken erreinuak aurkitu zituen, eta Kolonaurrekoak deitu zituen, hau da, Kolon baino lehenago zeudenak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556000" y="4869000"/>
            <a:ext cx="38480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AKIN, AITOR, ANE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RAY, DANI, NAHIKARI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ª LUISA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826920" y="1268280"/>
            <a:ext cx="6985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010f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KAERA</a:t>
            </a:r>
            <a:endParaRPr b="0" lang="en-US" sz="1800" spc="1" strike="noStrike">
              <a:ln w="9360">
                <a:solidFill>
                  <a:srgbClr val="1010f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900000" y="54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6156360" y="386064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7812000" y="476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0" y="458136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7524720" y="4653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7885080" y="2205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2627280" y="260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4788000" y="333360"/>
            <a:ext cx="107928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1403280" y="522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GRAF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OLONEN ITSASONTZ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DA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URKIKUNT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333360"/>
            <a:ext cx="42483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rkibide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2"/>
          <p:cNvGrpSpPr/>
          <p:nvPr/>
        </p:nvGrpSpPr>
        <p:grpSpPr>
          <a:xfrm>
            <a:off x="468360" y="260280"/>
            <a:ext cx="8281800" cy="6121080"/>
            <a:chOff x="468360" y="260280"/>
            <a:chExt cx="8281800" cy="6121080"/>
          </a:xfrm>
        </p:grpSpPr>
        <p:cxnSp>
          <p:nvCxnSpPr>
            <p:cNvPr id="45" name="_s1028"/>
            <p:cNvCxnSpPr>
              <a:stCxn id="46" idx="1"/>
              <a:endCxn id="47" idx="2"/>
            </p:cNvCxnSpPr>
            <p:nvPr/>
          </p:nvCxnSpPr>
          <p:spPr>
            <a:xfrm rot="10800000">
              <a:off x="6681600" y="5069160"/>
              <a:ext cx="295560" cy="87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7" idx="1"/>
              <a:endCxn id="49" idx="2"/>
            </p:cNvCxnSpPr>
            <p:nvPr/>
          </p:nvCxnSpPr>
          <p:spPr>
            <a:xfrm rot="10800000">
              <a:off x="5498280" y="3757320"/>
              <a:ext cx="295560" cy="87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30"/>
            <p:cNvCxnSpPr>
              <a:stCxn id="49" idx="0"/>
              <a:endCxn id="51" idx="2"/>
            </p:cNvCxnSpPr>
            <p:nvPr/>
          </p:nvCxnSpPr>
          <p:spPr>
            <a:xfrm flipV="1" rot="16200000">
              <a:off x="5278680" y="2663280"/>
              <a:ext cx="438120" cy="2160"/>
            </a:xfrm>
            <a:prstGeom prst="bentConnector3">
              <a:avLst>
                <a:gd name="adj1" fmla="val 260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31"/>
            <p:cNvCxnSpPr>
              <a:stCxn id="53" idx="0"/>
              <a:endCxn id="54" idx="2"/>
            </p:cNvCxnSpPr>
            <p:nvPr/>
          </p:nvCxnSpPr>
          <p:spPr>
            <a:xfrm flipV="1">
              <a:off x="3427200" y="2445480"/>
              <a:ext cx="1440" cy="4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2"/>
            <p:cNvCxnSpPr>
              <a:stCxn id="56" idx="0"/>
              <a:endCxn id="57" idx="2"/>
            </p:cNvCxnSpPr>
            <p:nvPr/>
          </p:nvCxnSpPr>
          <p:spPr>
            <a:xfrm flipV="1" rot="16200000">
              <a:off x="1137240" y="2663280"/>
              <a:ext cx="438120" cy="2160"/>
            </a:xfrm>
            <a:prstGeom prst="bentConnector3">
              <a:avLst>
                <a:gd name="adj1" fmla="val 260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3"/>
            <p:cNvCxnSpPr>
              <a:stCxn id="51" idx="0"/>
              <a:endCxn id="59" idx="2"/>
            </p:cNvCxnSpPr>
            <p:nvPr/>
          </p:nvCxnSpPr>
          <p:spPr>
            <a:xfrm flipV="1" rot="16200000">
              <a:off x="4242960" y="316800"/>
              <a:ext cx="438120" cy="2070720"/>
            </a:xfrm>
            <a:prstGeom prst="bentConnector3">
              <a:avLst>
                <a:gd name="adj1" fmla="val 261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4"/>
            <p:cNvCxnSpPr>
              <a:stCxn id="54" idx="0"/>
              <a:endCxn id="59" idx="2"/>
            </p:cNvCxnSpPr>
            <p:nvPr/>
          </p:nvCxnSpPr>
          <p:spPr>
            <a:xfrm flipV="1">
              <a:off x="3427200" y="1133280"/>
              <a:ext cx="1440" cy="4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5"/>
            <p:cNvCxnSpPr>
              <a:stCxn id="57" idx="0"/>
              <a:endCxn id="59" idx="2"/>
            </p:cNvCxnSpPr>
            <p:nvPr/>
          </p:nvCxnSpPr>
          <p:spPr>
            <a:xfrm flipH="1" flipV="1" rot="5400000">
              <a:off x="2172600" y="316440"/>
              <a:ext cx="438120" cy="2071800"/>
            </a:xfrm>
            <a:prstGeom prst="bentConnector3">
              <a:avLst>
                <a:gd name="adj1" fmla="val 261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1036"/>
            <p:cNvSpPr/>
            <p:nvPr/>
          </p:nvSpPr>
          <p:spPr>
            <a:xfrm>
              <a:off x="2539080" y="260280"/>
              <a:ext cx="1774800" cy="873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Comic Sans MS"/>
                </a:rPr>
                <a:t>Kolonen aurkikuntzak</a:t>
              </a:r>
              <a:endParaRPr b="0" lang="en-US" sz="21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7" name="_s1037"/>
            <p:cNvSpPr/>
            <p:nvPr/>
          </p:nvSpPr>
          <p:spPr>
            <a:xfrm>
              <a:off x="468360" y="1571760"/>
              <a:ext cx="177480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Zer aurkitu zuen?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4" name="_s1038"/>
            <p:cNvSpPr/>
            <p:nvPr/>
          </p:nvSpPr>
          <p:spPr>
            <a:xfrm>
              <a:off x="2539080" y="1571760"/>
              <a:ext cx="177480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Noiz aurkitu zuen?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1" name="_s1039"/>
            <p:cNvSpPr/>
            <p:nvPr/>
          </p:nvSpPr>
          <p:spPr>
            <a:xfrm>
              <a:off x="4609800" y="1571760"/>
              <a:ext cx="177480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Zein zen bere helburua?</a:t>
              </a: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6" name="_s1040"/>
            <p:cNvSpPr/>
            <p:nvPr/>
          </p:nvSpPr>
          <p:spPr>
            <a:xfrm>
              <a:off x="469080" y="2883600"/>
              <a:ext cx="177408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Amerika              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3" name="_s1041"/>
            <p:cNvSpPr/>
            <p:nvPr/>
          </p:nvSpPr>
          <p:spPr>
            <a:xfrm>
              <a:off x="2539800" y="2883600"/>
              <a:ext cx="177408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1492an</a:t>
              </a:r>
              <a:endParaRPr b="0" lang="en-US" sz="23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" name="_s1042"/>
            <p:cNvSpPr/>
            <p:nvPr/>
          </p:nvSpPr>
          <p:spPr>
            <a:xfrm>
              <a:off x="4610880" y="2883600"/>
              <a:ext cx="177372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300" spc="-1" strike="noStrike">
                  <a:solidFill>
                    <a:srgbClr val="000000"/>
                  </a:solidFill>
                  <a:latin typeface="Comic Sans MS"/>
                </a:rPr>
                <a:t>Indiara iristea</a:t>
              </a:r>
              <a:endParaRPr b="0" lang="en-US" sz="23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7" name="_s1043"/>
            <p:cNvSpPr/>
            <p:nvPr/>
          </p:nvSpPr>
          <p:spPr>
            <a:xfrm>
              <a:off x="5793480" y="4195800"/>
              <a:ext cx="177372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omic Sans MS"/>
                </a:rPr>
                <a:t>Zertarako?</a:t>
              </a:r>
              <a:endParaRPr b="0" lang="en-US" sz="24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6" name="_s1044"/>
            <p:cNvSpPr/>
            <p:nvPr/>
          </p:nvSpPr>
          <p:spPr>
            <a:xfrm>
              <a:off x="6976080" y="5507640"/>
              <a:ext cx="1774080" cy="873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Espeziak bilatzeko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3959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319280" y="1844640"/>
            <a:ext cx="482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Kolon Genovan 1541an jaio zen eta 1506an hil 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816360" cy="357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5013360"/>
            <a:ext cx="9144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xikitan hasi zen nabigazioan ibiltzeko gogoarekin eta oso gazte aritu zen itsasmutil laneta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eografia ikasi zuen Pisa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35280" y="18900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Biograf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284720" y="2565360"/>
            <a:ext cx="4535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480an Feliparekin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zkondu zen Portugalen; jatorri nobleko dama zen eta Kolon bera hala izango ze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8920" y="2133360"/>
            <a:ext cx="853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arai hartan zeuden mapa guztiak irakurri zituen. Indiara iristeko irrikaz zegoen, paraje haietan aberastasun handia zegoela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4249800" cy="244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574560" y="5493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sko izan ziren, Kristobal Kolonek eginiko bidaiak. Apunteak eta idatzizko notak egiten jaioa ze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"/>
          <p:cNvSpPr/>
          <p:nvPr/>
        </p:nvSpPr>
        <p:spPr>
          <a:xfrm>
            <a:off x="4680000" y="393372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rrian San Salvador uhartera iritsi zen lehenengo aldiz. Berak jakin gabe, Mundu Berria aurkitu baitzuen: Amerika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68403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atch?v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6-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3ZNnsC4q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050920" y="3141720"/>
            <a:ext cx="453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gundoak: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00 – 0:15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29 – 0:40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57 - 1:06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:31 – 1:53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7280" y="404640"/>
            <a:ext cx="6912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Bida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Kolonek hiru itsasontsi eraman zitu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meriket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640" y="189000"/>
            <a:ext cx="77040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Itsasontz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1042920" y="2708280"/>
            <a:ext cx="1368360" cy="12970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INT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RABELA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78" name="Picture 24" descr="hobby-modelismo-carabela-la-pinta-1492-kit-modelismo-naval-ref-22412-de-artesania-latina"/>
          <p:cNvPicPr/>
          <p:nvPr/>
        </p:nvPicPr>
        <p:blipFill>
          <a:blip r:embed="rId1"/>
          <a:stretch/>
        </p:blipFill>
        <p:spPr>
          <a:xfrm>
            <a:off x="611280" y="4221000"/>
            <a:ext cx="2232000" cy="2208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ANd9GcSDsEu9Mq_NMgLBJywXexC8-ZztUg-fLzvnK8U79zgZRqUjqFRI"/>
          <p:cNvPicPr/>
          <p:nvPr/>
        </p:nvPicPr>
        <p:blipFill>
          <a:blip r:embed="rId2"/>
          <a:stretch/>
        </p:blipFill>
        <p:spPr>
          <a:xfrm>
            <a:off x="3419640" y="3933720"/>
            <a:ext cx="1828800" cy="2505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7"/>
          <p:cNvSpPr/>
          <p:nvPr/>
        </p:nvSpPr>
        <p:spPr>
          <a:xfrm>
            <a:off x="3708360" y="2708280"/>
            <a:ext cx="1368360" cy="93492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NIÑ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RABELA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1" name="Picture 16" descr="trois-mats-santa-maria-gd"/>
          <p:cNvPicPr/>
          <p:nvPr/>
        </p:nvPicPr>
        <p:blipFill>
          <a:blip r:embed="rId3"/>
          <a:stretch/>
        </p:blipFill>
        <p:spPr>
          <a:xfrm>
            <a:off x="5940360" y="4149720"/>
            <a:ext cx="2586240" cy="2284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8"/>
          <p:cNvSpPr/>
          <p:nvPr/>
        </p:nvSpPr>
        <p:spPr>
          <a:xfrm>
            <a:off x="6372360" y="2565360"/>
            <a:ext cx="1944720" cy="12952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SANTA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TSASONTZIA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hen bidaia 1492 abuztuaren  3an irten zen Palos de la Fronteratik (Huel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barcos"/>
          <p:cNvPicPr/>
          <p:nvPr/>
        </p:nvPicPr>
        <p:blipFill>
          <a:blip r:embed="rId1"/>
          <a:stretch/>
        </p:blipFill>
        <p:spPr>
          <a:xfrm>
            <a:off x="1187280" y="1916280"/>
            <a:ext cx="2808360" cy="223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440px-Viajes_de_colon"/>
          <p:cNvPicPr/>
          <p:nvPr/>
        </p:nvPicPr>
        <p:blipFill>
          <a:blip r:embed="rId2"/>
          <a:stretch/>
        </p:blipFill>
        <p:spPr>
          <a:xfrm>
            <a:off x="4932360" y="198900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79640" y="549360"/>
            <a:ext cx="43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ida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9840" y="404640"/>
            <a:ext cx="9074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meriketara lehen bidaia 1492aren Abuztuko 3an,  hasi zen Palos de laFronterako portutik hiru ontzi, Santa Maria, Pinta eta Niña flota bat osatze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Kanariar uharteetan, konponketa batzuk egin zi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9280" y="3357720"/>
            <a:ext cx="378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Kolonen hirugarren bidaiarako ontzien horniduraz arduratu zen, eta lanbide hark lurralde berriak ezagutzeko sortu zion gogoak itsasketara bultzatu zuen.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9" name="Picture 4" descr="220px-Amerigo_Vespucci"/>
          <p:cNvPicPr/>
          <p:nvPr/>
        </p:nvPicPr>
        <p:blipFill>
          <a:blip r:embed="rId1"/>
          <a:stretch/>
        </p:blipFill>
        <p:spPr>
          <a:xfrm>
            <a:off x="4211640" y="3213000"/>
            <a:ext cx="453708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8Z</dcterms:created>
  <dc:creator>Ik015111zz</dc:creator>
  <dc:description/>
  <dc:language>en-US</dc:language>
  <cp:lastModifiedBy>ik015111zz</cp:lastModifiedBy>
  <dcterms:modified xsi:type="dcterms:W3CDTF">2012-05-24T12:31:45Z</dcterms:modified>
  <cp:revision>17</cp:revision>
  <dc:subject/>
  <dc:title>Diapositiva 1</dc:title>
</cp:coreProperties>
</file>